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80513" cy="11156950"/>
  <p:notesSz cx="9871075" cy="14122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AD6A-15D0-41DE-8D1B-DC9C475BE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9000" y="2610360"/>
            <a:ext cx="826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9000" y="5990400"/>
            <a:ext cx="826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B3F9-6570-4C32-A234-395B8808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9000" y="261036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2600" y="261036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9000" y="599040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92600" y="599040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8313-C302-4750-BE51-5544C3783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9000" y="2610360"/>
            <a:ext cx="26600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52600" y="2610360"/>
            <a:ext cx="26600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45840" y="2610360"/>
            <a:ext cx="26600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9000" y="5990400"/>
            <a:ext cx="26600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52600" y="5990400"/>
            <a:ext cx="26600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45840" y="5990400"/>
            <a:ext cx="26600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8D4F-08BC-4A69-A7F3-4C1664C01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9000" y="2610360"/>
            <a:ext cx="8261640" cy="64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0129-CC59-41B5-84FF-10E0DB0B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9000" y="2610360"/>
            <a:ext cx="8261640" cy="64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65CE-9B40-4DAF-9905-0BFBFA81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9000" y="2610360"/>
            <a:ext cx="4031640" cy="64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2600" y="2610360"/>
            <a:ext cx="4031640" cy="64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B284-9D6B-41CA-8528-81AE4F98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71EB-9783-47C3-96A5-6DB900CB4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9000" y="444960"/>
            <a:ext cx="8261640" cy="86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75"/>
              </a:spcBef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BDB9-676C-4EE0-A6DC-D2F88051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9000" y="261036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2600" y="2610360"/>
            <a:ext cx="4031640" cy="64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9000" y="599040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9E66-2823-4F3F-AA11-038C3A4E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9000" y="2610360"/>
            <a:ext cx="4031640" cy="64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2600" y="261036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92600" y="599040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0349-DEC9-458C-B47F-B057B1B9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9000" y="261036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92600" y="261036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9000" y="5990400"/>
            <a:ext cx="826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9CF0-142E-4577-93CA-28D1E9BF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9040" y="10164600"/>
            <a:ext cx="1913040" cy="743040"/>
          </a:xfrm>
          <a:prstGeom prst="rect">
            <a:avLst/>
          </a:prstGeom>
          <a:noFill/>
          <a:ln w="0">
            <a:noFill/>
          </a:ln>
        </p:spPr>
        <p:txBody>
          <a:bodyPr lIns="110880" rIns="110880" tIns="55440" bIns="55440" anchor="t">
            <a:noAutofit/>
          </a:bodyPr>
          <a:lstStyle>
            <a:lvl1pPr indent="0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  <a:defRPr b="0" lang="en-US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37040" y="10164600"/>
            <a:ext cx="2906640" cy="743040"/>
          </a:xfrm>
          <a:prstGeom prst="rect">
            <a:avLst/>
          </a:prstGeom>
          <a:noFill/>
          <a:ln w="0">
            <a:noFill/>
          </a:ln>
        </p:spPr>
        <p:txBody>
          <a:bodyPr lIns="110880" rIns="110880" tIns="55440" bIns="55440" anchor="t">
            <a:noAutofit/>
          </a:bodyPr>
          <a:lstStyle>
            <a:lvl1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  <a:defRPr b="0" lang="en-US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78640" y="10164600"/>
            <a:ext cx="1913040" cy="743040"/>
          </a:xfrm>
          <a:prstGeom prst="rect">
            <a:avLst/>
          </a:prstGeom>
          <a:noFill/>
          <a:ln w="0">
            <a:noFill/>
          </a:ln>
        </p:spPr>
        <p:txBody>
          <a:bodyPr lIns="110880" rIns="110880" tIns="55440" bIns="55440" anchor="t">
            <a:noAutofit/>
          </a:bodyPr>
          <a:lstStyle>
            <a:lvl1pPr indent="0" algn="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  <a:defRPr b="0" lang="en-US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fld id="{CC806CD2-994C-4829-8331-5DFFEFB9D38C}" type="slidenum"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243360" cy="11156760"/>
            <a:chOff x="0" y="0"/>
            <a:chExt cx="9243360" cy="11156760"/>
          </a:xfrm>
        </p:grpSpPr>
        <p:sp>
          <p:nvSpPr>
            <p:cNvPr id="4" name=""/>
            <p:cNvSpPr/>
            <p:nvPr/>
          </p:nvSpPr>
          <p:spPr>
            <a:xfrm>
              <a:off x="3688200" y="428760"/>
              <a:ext cx="4194000" cy="44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0880" rIns="110880" tIns="55440" bIns="55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9520"/>
                  <a:tab algn="l" pos="2219400"/>
                  <a:tab algn="l" pos="3328920"/>
                  <a:tab algn="l" pos="4438800"/>
                  <a:tab algn="l" pos="5548320"/>
                  <a:tab algn="l" pos="6657840"/>
                  <a:tab algn="l" pos="7767720"/>
                  <a:tab algn="l" pos="8877240"/>
                  <a:tab algn="l" pos="998712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Exploração &amp; Produção - E&amp;P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8555040" y="366480"/>
              <a:ext cx="533160" cy="55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6120" y="0"/>
              <a:ext cx="3467520" cy="11156760"/>
            </a:xfrm>
            <a:prstGeom prst="rect">
              <a:avLst/>
            </a:prstGeom>
            <a:solidFill>
              <a:srgbClr val="0805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0880" rIns="110880" tIns="55440" bIns="55440" anchor="ctr">
              <a:noAutofit/>
            </a:bodyPr>
            <a:p>
              <a:pPr algn="ctr">
                <a:tabLst>
                  <a:tab algn="l" pos="0"/>
                  <a:tab algn="l" pos="1109520"/>
                  <a:tab algn="l" pos="2219400"/>
                  <a:tab algn="l" pos="3328920"/>
                  <a:tab algn="l" pos="4438800"/>
                  <a:tab algn="l" pos="5548320"/>
                  <a:tab algn="l" pos="6657840"/>
                  <a:tab algn="l" pos="7767720"/>
                  <a:tab algn="l" pos="8877240"/>
                  <a:tab algn="l" pos="99871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0" y="2247120"/>
              <a:ext cx="3454560" cy="3931200"/>
              <a:chOff x="0" y="2247120"/>
              <a:chExt cx="3454560" cy="3931200"/>
            </a:xfrm>
          </p:grpSpPr>
          <p:pic>
            <p:nvPicPr>
              <p:cNvPr id="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2240" y="3294000"/>
                <a:ext cx="3442320" cy="279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125720" y="2247120"/>
                <a:ext cx="2328840" cy="119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5320440"/>
                <a:ext cx="1834560" cy="857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2240" y="2247120"/>
                <a:ext cx="1151640" cy="14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733040" y="5320440"/>
                <a:ext cx="1721160" cy="841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" name=""/>
            <p:cNvSpPr/>
            <p:nvPr/>
          </p:nvSpPr>
          <p:spPr>
            <a:xfrm>
              <a:off x="12240" y="1201320"/>
              <a:ext cx="918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3360" y="10995840"/>
              <a:ext cx="918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" name=""/>
            <p:cNvGrpSpPr/>
            <p:nvPr/>
          </p:nvGrpSpPr>
          <p:grpSpPr>
            <a:xfrm>
              <a:off x="996480" y="343080"/>
              <a:ext cx="1484640" cy="720720"/>
              <a:chOff x="996480" y="343080"/>
              <a:chExt cx="1484640" cy="720720"/>
            </a:xfrm>
          </p:grpSpPr>
          <p:pic>
            <p:nvPicPr>
              <p:cNvPr id="1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521000" y="343080"/>
                <a:ext cx="433080" cy="36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" name=""/>
              <p:cNvSpPr/>
              <p:nvPr/>
            </p:nvSpPr>
            <p:spPr>
              <a:xfrm>
                <a:off x="996480" y="770040"/>
                <a:ext cx="1484640" cy="29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0880" rIns="110880" tIns="55440" bIns="55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09520"/>
                    <a:tab algn="l" pos="2219400"/>
                    <a:tab algn="l" pos="3328920"/>
                    <a:tab algn="l" pos="4438800"/>
                    <a:tab algn="l" pos="5548320"/>
                    <a:tab algn="l" pos="6657840"/>
                    <a:tab algn="l" pos="7767720"/>
                    <a:tab algn="l" pos="8877240"/>
                    <a:tab algn="l" pos="9987120"/>
                  </a:tabLst>
                </a:pPr>
                <a:r>
                  <a:rPr b="0" i="1" lang="en-US" sz="1200" spc="-1" strike="noStrike">
                    <a:solidFill>
                      <a:srgbClr val="2f8b4e"/>
                    </a:solidFill>
                    <a:latin typeface="Arial Black"/>
                  </a:rPr>
                  <a:t>PETROBRAS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438360" y="1346040"/>
            <a:ext cx="5742000" cy="68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a7c"/>
                </a:solidFill>
                <a:latin typeface="Arial"/>
              </a:rPr>
              <a:t>Relatório de Impacto Ambi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a7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f0a7c"/>
                </a:solidFill>
                <a:latin typeface="Arial"/>
              </a:rPr>
              <a:t>- RIMA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a7c"/>
                </a:solidFill>
                <a:latin typeface="Arial"/>
              </a:rPr>
              <a:t>Campo de Albacora 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a7c"/>
                </a:solidFill>
                <a:latin typeface="Arial"/>
              </a:rPr>
              <a:t>- UN-RIO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a7c"/>
                </a:solidFill>
                <a:latin typeface="Arial"/>
              </a:rPr>
              <a:t>FPSO P-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a7c"/>
                </a:solidFill>
                <a:latin typeface="Arial"/>
              </a:rPr>
              <a:t>Atividade de Produção e Escoamento de Petróle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a7c"/>
                </a:solidFill>
                <a:latin typeface="Arial"/>
              </a:rPr>
              <a:t>e Gás Nat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02080" y="8713800"/>
            <a:ext cx="422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38360" y="9069480"/>
            <a:ext cx="57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zembro d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65440" y="4822920"/>
            <a:ext cx="6858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65440" y="5403960"/>
            <a:ext cx="6858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23080" y="10402920"/>
          <a:ext cx="2090880" cy="45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3080" y="10402920"/>
                    <a:ext cx="209088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4:09:42Z</dcterms:created>
  <dc:creator>E&amp;P</dc:creator>
  <dc:description/>
  <dc:language>en-US</dc:language>
  <cp:lastModifiedBy>HABTEC</cp:lastModifiedBy>
  <cp:lastPrinted>2002-01-10T10:07:55Z</cp:lastPrinted>
  <dcterms:modified xsi:type="dcterms:W3CDTF">2002-12-18T16:27:54Z</dcterms:modified>
  <cp:revision>56</cp:revision>
  <dc:subject/>
  <dc:title>Slide sem título </dc:title>
</cp:coreProperties>
</file>